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A71-5B8F-4062-BF5B-48731798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C4F-1679-4E43-96DC-83C5EC3E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0F6-8B78-4939-BFC4-31D6EABE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829-C5DD-45DF-BFF6-2FD1EEDA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1D6-B53E-40F2-93F2-00183FA3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D93-643F-4821-BD2F-911AC72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1A9-E895-45C2-BBD1-F0E9364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ACC-ECE8-4F4F-B555-E87AF65C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D04-0EC1-4199-A7EB-A6B56490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74A-1B37-4031-A952-9A6A133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41A-0580-433E-AFBB-53A005D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5E6-A859-41E9-9944-13289D9C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69DA-FF55-47C1-BE99-F4974A01F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POROČILO O FINANČNEM IN SISTEMSKEM IZVAJANJU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OP 14-20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9600" y="287280"/>
            <a:ext cx="7983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izvajanju evropske kohezijske politike</a:t>
            </a: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januar 2014 – marec 2016 – po skladih in regijah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157320" y="1500120"/>
            <a:ext cx="8827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9760" y="528480"/>
            <a:ext cx="7985160" cy="577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 u="sng">
                <a:solidFill>
                  <a:srgbClr val="000000"/>
                </a:solidFill>
                <a:uFillTx/>
                <a:latin typeface="Calibri"/>
              </a:rPr>
              <a:t>ESS ukrepi</a:t>
            </a: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 os 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podbujanje zaposlovanja in transnacionalna mobilnost delovne sile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Na PO 8 je bilo do konca marca 2016 izdanih šest odločitev o podpori.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Izvajanje storitev za brezposelne, druge iskalce zaposlitve in delodajalce v višini 12.251.910 EUR in NPO Usposabljanje na delovnem mestu v višini 7.035.513 EUR. 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Spodbujanje pripravništev v višini 1.467.123 EUR in NPO Krepitev svetovalnega dela z mladimi v Zavodu RS za zaposlovanje v višini 3.147.311 EUR ter javni razpis Prva zaposlitev na področju VIZ v višini 4.320.000 EUR (prvi in ponovljeni razpis skupaj).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okviru specifičnega cilja, namenjenega izvedbi Pobude za zaposlovanje mladih, je bil potrjen NPO v višini 18.423.072 EUR.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s 9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cialna vključenost in zmanjševanje tveganja revščine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januarju 2016 sta bili izdani 2 odločitvi o podpori, in sicer za program Zdrav življenjski slog, ki ga izvaja Zavod za šport RS Planica (vrednost 4 mio EUR) ter za projekt Razvoj delovnih kompetenc zaprtih oseb, ki ga izvaja Uprava RS za izvrševanje kazenskih sankcij (vrednost 784.000 EUR). Izdana je bila tudi odločitev o podpori za Javni razpis za izbor operacij za večjo socialno vključenost pripadnikov ranljivih družbenih skupin na področju kulture v okviru ESS v letih 2016-2017, ki ga izvaja MK (v vrednosti 960.000 EUR). Prav tako je bila za MK izdana odločitev o podpori za projekt Vključujemo in aktiviramo!, ki ga bo izvajala Javna agencija RS za knjigo (v vrednosti 680.000 EUR). Konec marca je bila izdana odločitev o podpori za program Projektno učenje za mlade odrasle, ki ga izvaja Zavod RS za zaposlovanje (vrednost 9,6 mio EUR). 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 os 1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nanje, spretnosti in vseživljenjsko učenje za boljšo zaposljivost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mesecu februarju je bila do sedaj izdana odločitev o podpori za program Štipendije za deficitarne poklice v vrednosti 11.061.232 EUR (EU del).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 os 11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avna država, izboljšanje institucionalnih zmogljivosti, učinkovita javna uprava,podpora razvoju NVO ter krepitev zmogljivosti socialnih partnerjev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okviru PO 11 je bila v letu 2015 izdana ena odločitev o podpori. V okviru doseganja cilja, ki je namenjen povečani stopnji profesionalnosti nevladnim organizacijam je bil potrjen Javni razpis za krepitev zmogljivosti NVO za zagovorništvo in izvajanje javnih storitev 2015-2019 (5.007.686 EUR EU del). </a:t>
            </a:r>
            <a:br>
              <a:rPr sz="11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2520" y="51264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stanju sistema izvajanja evropske kohezijske politike za obdobje 2014-202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oljeZBesedilom 2"/>
          <p:cNvSpPr/>
          <p:nvPr/>
        </p:nvSpPr>
        <p:spPr>
          <a:xfrm>
            <a:off x="519120" y="1998720"/>
            <a:ext cx="75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lep Vlade RS št. 54402-2/2016/6 z dne 3.3.2016 s predvidenimi ukrepi (sistem sicer deluje, vendar je potrebno izvesti aktivnosti, ki bodo omogočile optimizacijo sistema ter akreditacijo, designacijo organov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formacija o stanju izvajanja je bila dne 4.5.2016 dana v seznanitev Vladi 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ečina aktivnosti zahteva sistematičen pristop, zaradi česar so bili roki za izvedbo postavljeni v drugo polovico leta 201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a SVRK je, da uresničevanje aktivnosti trenutno poteka v skladu s pričakovanji ter da bo akcijski načrt za dokončno vzpostavitev sistema lahko izveden v rokih, kot je bilo predviden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160" y="1569960"/>
            <a:ext cx="7985160" cy="47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KLJUČNI UKREPI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bjava napovedi javnih razpisov na spletnih straneh in sheme pravnih podlag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zpostavitev učinkovitega informacijskega sistema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oenostavitve, kjer bo to možno (optimizacija, spremembe navodil OU)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eučitev pravnih podlag za prednostno obravnavo projektov iz evropskih sredstev pri pridobivanju dovoljenj (MOP, Direkcija za vode, ARSO itd.)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ečja poenotenost, usklajenost med izvajanjem kohezijske politike in nacionalnih politik, predvsem v smislu izvrševanja proračuna in financiranja iz javnih virov (UEM, državne pomoči)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določitev manjkajočih elementov za delovanje sistema na posameznih konkretnih vsebinskih področjih, na katerih so bile s strani ministrstev zaznane bistvene pomanjkljivosti: sistem izvajanja CTN, sistem izvajanja finančnih instrumentov, priprava podlag za akreditacijo sistema, organizacija usposabljanj za deležnike v sistemu ipd. </a:t>
            </a:r>
            <a:br>
              <a:rPr sz="16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680" y="326880"/>
            <a:ext cx="7983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IZVAJANJU EKP 2014-2020</a:t>
            </a: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za obdobje januar 2014 - marec 201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oljeZBesedilom 2"/>
          <p:cNvSpPr/>
          <p:nvPr/>
        </p:nvSpPr>
        <p:spPr>
          <a:xfrm>
            <a:off x="855720" y="1433520"/>
            <a:ext cx="74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lada RS se je s poročilom seznanila na seji 28.4.20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KLJUČNE NOVOSTI, KI VPLIVAJO NA IZVAJA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HODNE POGOJENOSTI - vnaprej opredeljen ključni dejavnik, ki je pogoj za uspešno in učinkovito doseganje ciljev prednostnih osi oziroma naložb 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N OPERATIVNI PROGRAM 14-20 za cilj Naložbe za rast in delovna mesta, v katerem se kombinirajo 3 skladi in 2 kohezijski regiji – sinerg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EDBENI NAČRT OP kot faza „prednačrtovanja“ ukrepov, ki ga sprejema Vlada RS z odloko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ransparent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sklajevanje in dopolnjevanje ukrep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doseganja okvirja uspešnosti, ustrezne finančne realizacije ter doseganja ostalih ciljev 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7440" y="46512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vedbeni načrt OP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oljeZBesedilom 2"/>
          <p:cNvSpPr/>
          <p:nvPr/>
        </p:nvSpPr>
        <p:spPr>
          <a:xfrm>
            <a:off x="833400" y="2728800"/>
            <a:ext cx="737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4. sprememba Odloka sprejeta na Vladi RS 12.5.2016, objavljen na v Ur. L. RS dne 13.5.2016, na voljo tudi na spletnih straneh </a:t>
            </a:r>
            <a:r>
              <a:rPr b="0" lang="sl-SI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eu-skladi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500040" y="227160"/>
          <a:ext cx="7832880" cy="5572080"/>
        </p:xfrm>
        <a:graphic>
          <a:graphicData uri="http://schemas.openxmlformats.org/drawingml/2006/table">
            <a:tbl>
              <a:tblPr/>
              <a:tblGrid>
                <a:gridCol w="2505240"/>
                <a:gridCol w="409320"/>
                <a:gridCol w="524160"/>
                <a:gridCol w="523800"/>
                <a:gridCol w="523800"/>
                <a:gridCol w="522360"/>
                <a:gridCol w="523800"/>
                <a:gridCol w="523800"/>
                <a:gridCol w="523800"/>
                <a:gridCol w="420840"/>
                <a:gridCol w="831960"/>
              </a:tblGrid>
              <a:tr h="20772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nostna 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spev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na vso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Mednarodna konkurenčnost raziskav, inovacij in tehnološkega razvoja v skladu s pametno specializacijo za večjo konkurenčnosti in ozelenitev gospodar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8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.008.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.377.0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.365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.060.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785.3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062.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.739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2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502.0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594.2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.341.3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265.0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446.3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65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434.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Povečanje dostopnosti do informacijsko-komunikacijskih tehnologij ter njihove uporabe in kakov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4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88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952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448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526.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8.518.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97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238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112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81.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129.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Dinamično in konkurenčno podjetništvo za zeleno gospodarsko r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687.6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528.6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33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.230.8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.209.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.271.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.820.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6.078.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58.3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158.4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417.6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515.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283.4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247.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223.3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.504.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 Trajnostna raba in proizvodnja energije ter pametna omrežja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24.9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913.7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.057.0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044.4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.347.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134.0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.410.6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1.632.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3.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61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204.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375.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451.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111.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07.7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146.0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 Prilagajanje na podnebne spremem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571.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374.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1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66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66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00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051.8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021.9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77.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89.6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870.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37.8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96.6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9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362.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113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 Boljše stanje okolja in biotske raznovrst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4.088.4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8.258.6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.345.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494.7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961.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.403.4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.684.2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236.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39.1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491.6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769.4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235.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441.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109.9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87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.874.0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 Izgradnja infrastrukture in ukrepi za spodbujanje trajnostne mobil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446.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869.4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848.2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412.9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921.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039.2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222.6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2.760.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4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269.3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813.7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.398.8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501.3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52.5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.760.5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 Spodbujanje zaposlovanja in transnacionalna mobilnost delovne si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188.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.370.4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623.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.313.2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.295.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872.4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283.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6.948.1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658.3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28.6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905.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78.3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573.9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968.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20.9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1.934.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56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 Socialna vključenost in zmanjševanje tveganja revšč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23.3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.968.6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117.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710.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.479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04.9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699.6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0.303.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05.8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742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360.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77.5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113.7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76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74.9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.151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 Znanje, spretnosti in vseživljenjsko učenje za boljšo zaposljiv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570.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857.9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794.4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.319.9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.675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347.7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454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9.020.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2.6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464.4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98.6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579.9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668.7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86.9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3.5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.255.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 Pravna država, izboljšanje institucionalnih zmogljivosti, učinkovita javna uprava, podpora razvoju NVO in krepitev zmogljivosti socialnih partnerje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305.4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57.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02.8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482.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724.9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56.1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85.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59.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.073.9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76.3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14.3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600.7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70.5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81.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39.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1.3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518.4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 Tehnična pomoč (K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56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047.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069.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19.3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978.5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45.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820.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9.537.0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27.6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55.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59.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32.8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13.8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25.6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85.9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800.6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 Tehnična pomoč (ESR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25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00.0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31.0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10.1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06.6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56.3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32.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162.5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1.4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.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7.7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2.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1.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9.0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8.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90.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 Tehnična pomoč (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05.7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80.6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92.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07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53.9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50.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77.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868.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6.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0.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3.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6.8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3.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2.5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4.3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17.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.179.6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2.92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54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.32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7.701.1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0.166.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3.405.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59.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11.899.7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098.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.05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8.32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.95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8.535.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.343.3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417.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5.13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8.278.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7.97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2.86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27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6.236.6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7.509.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6.823.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74.4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617.029.8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4"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razporejeno na resor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5.993.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2.829.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1.301.4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1.195.2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7.770.4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534.6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.459.6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59.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07.744.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743.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.250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.294.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8.590.4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670.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327.4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27.6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8.218.5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1.737.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5.079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8.596.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9.785.7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1.440.8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9.862.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387.2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74.4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05.962.6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 rowSpan="3"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stanek na SVRK - še nerazporeje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185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0.094.6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242.3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.124.7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9.930.7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3.631.9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2.945.5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04.155.7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55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799.9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025.4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359.5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.865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.015.9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490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6.911.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54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2.894.6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267.8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5.484.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4.795.7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7.647.8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9.435.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11.067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Ostaja na SVRK:</a:t>
            </a:r>
            <a:br>
              <a:rPr sz="2500"/>
            </a:b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predlogi NIO za finančne instrumente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izgradnjo centra znanosti in centra raziskovalnih umetnosti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 - ukrepi, ki se bodo izvajali v okviru mehanizma CTN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projekti s področja železniške infrastrukture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CLLD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projekti iz področja zdravstvene in socialne infrastrukture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1680" y="352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SEGANJE N+3 po INOP – celoten OP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1" name="Grafikon 2" descr=""/>
          <p:cNvPicPr/>
          <p:nvPr/>
        </p:nvPicPr>
        <p:blipFill>
          <a:blip r:embed="rId1"/>
          <a:stretch/>
        </p:blipFill>
        <p:spPr>
          <a:xfrm>
            <a:off x="1311120" y="1743120"/>
            <a:ext cx="66740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2520" y="40968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seganje n+3 po INOP – po skladih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71520" y="1860480"/>
            <a:ext cx="4789440" cy="1647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tretch/>
        </p:blipFill>
        <p:spPr>
          <a:xfrm>
            <a:off x="1271520" y="3825720"/>
            <a:ext cx="4789440" cy="1981440"/>
          </a:xfrm>
          <a:prstGeom prst="rect">
            <a:avLst/>
          </a:prstGeom>
          <a:ln w="0">
            <a:noFill/>
          </a:ln>
        </p:spPr>
      </p:pic>
      <p:sp>
        <p:nvSpPr>
          <p:cNvPr id="575" name="PoljeZBesedilom 2"/>
          <p:cNvSpPr/>
          <p:nvPr/>
        </p:nvSpPr>
        <p:spPr>
          <a:xfrm>
            <a:off x="6477120" y="2189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SRR </a:t>
            </a:r>
            <a:r>
              <a:rPr b="0" lang="sl-SI" sz="18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6"/>
          <p:cNvSpPr/>
          <p:nvPr/>
        </p:nvSpPr>
        <p:spPr>
          <a:xfrm>
            <a:off x="6572160" y="463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Naslov 1"/>
          <p:cNvSpPr/>
          <p:nvPr/>
        </p:nvSpPr>
        <p:spPr>
          <a:xfrm>
            <a:off x="542880" y="409680"/>
            <a:ext cx="79851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seganje n+3 po INOP – po sklad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5"/>
          <p:cNvSpPr/>
          <p:nvPr/>
        </p:nvSpPr>
        <p:spPr>
          <a:xfrm>
            <a:off x="6516720" y="218916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oljeZBesedilom 6"/>
          <p:cNvSpPr/>
          <p:nvPr/>
        </p:nvSpPr>
        <p:spPr>
          <a:xfrm>
            <a:off x="6572160" y="463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Y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160640" y="1517760"/>
            <a:ext cx="4532040" cy="1895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1160640" y="3932280"/>
            <a:ext cx="45320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9600" y="287280"/>
            <a:ext cx="7983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izvajanju evropske kohezijske politike</a:t>
            </a: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januar 2014 – marec 2016 – po oseh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8282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6-05-19T04:17:01Z</dcterms:modified>
  <cp:revision>33</cp:revision>
  <dc:subject/>
  <dc:title>PowerPoint Presentation</dc:title>
</cp:coreProperties>
</file>